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913-A7E3-4D64-902B-0A44DC0C3D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jor training methods, applications and condition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principal rules for written training materials and visual ai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go into details of writing training materials; refer the trainees to the handou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on "Simple Writing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 You may conduct th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tional additional Exercise "M03U03 Exercise: Simple Writing and Editing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considerations for organising course content and logistic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1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the Handout for Trai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pplication Form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Appendix 2 in the Handout for Trainee: Logistics Check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the components and characteristics for curriculum desig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raining Kit is a curricul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fer to the handout related t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Writing Learning Outcomes”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40B7-62ED-4FB3-87EF-FAE727638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1EFA-0DCC-4502-A6C4-64FAAC3C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65D1-1F00-4405-95A7-A3C950E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0E44-B742-45D7-A699-83BED3141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984D-60C6-454E-908A-D45F349B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73FA3-C177-46F6-89C5-203F9488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BEB77-64FC-4E15-9DC9-D5CC6798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28A7F-BE2D-48A2-B78D-3D118DB5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6444-2C82-4ECF-930B-EA94BE3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E3E80-3E3E-4AAF-BDB8-04517DBB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3859C-280C-4EC8-A09E-7A78220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3F84-A60E-47C9-A783-E6AED42A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F859D-4E4F-4262-8C6F-FEA6A2A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985B2-CE2E-4090-AEE0-44E025D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5F4B9-0352-4FE6-844E-787D7D9C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0FE3-3F23-4D4D-851F-9F16FFF7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3C0A-0C0F-4B48-9B67-AC341B78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E19B-E569-4789-AFBF-71DB48CE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0332-56E1-4BC0-A50D-0366ED6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F4DD-DEC1-4717-98C6-174263FA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93F3-DC45-4900-8024-84A5DF61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6A05-8032-4ED2-81E0-4C0C694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3141-76CA-46F3-A0AA-59371AB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FFDB-DED0-4AFC-AC57-D6FD142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C5A-B22C-4E64-AD83-DF5B14516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203-A96D-412E-8971-09F18D18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paring and Structur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 Training Ev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ople learn best by what they see and do and less well by what they only hear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best approach combines several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ations for increasing knowledge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practical exercises for improving skill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role plays for influencing behaviour an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itude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participa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ing is one-way communication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t transfers information to a larg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load too much information into one s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ctures and present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cturers should use visual aids that are specifically designed for a lectur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isual and oral communication address complementary areas of the brai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"whole-brain learning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work is a most effici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group possesses more knowledge than any individual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group members should participate activ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prevent a few people from dominating the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roup work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are many kinds of group work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“Snowballing”, a group discussion begins in pairs of participa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r group rotation, a common method is called “the world café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a key question to the participa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contributes ide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ideas are valid; there are no "wrong" id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rainstorm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variation of brainstorming is to collect ideas on meta car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cards into categori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one participa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n opportunity to elaborate on real sit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present the cases in writing and/or visual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vide appropriate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not be overloaded with detai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rom goal to curriculum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ethod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emonstrations and exerci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volve most of human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st appreciated by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relate to the theoretical introduc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conduct trial runs before involving traine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eld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o demonstrate and practise techniques and experiences which are not available at the course venu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visit should contribute to the whole picture of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s for each visit must be specifi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visit the fields before going there with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pport communication, teaching an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rve as future reference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mple notes, textbooks, audiovisuals, computer-assisted procedures and Internet-based simula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veloped for a specific purpos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such as the components of the PGIS-TK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rgeted at specific audienc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riented towards the learning outcom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ood training material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esented in a simple, yet technically correct way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sted and evaluated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ttractive to use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should not expect perfect materials right from the begin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evolve over tim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ritten materials and visual aids are most commonly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ritten material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pamphlets, handouts, bulletins, textbook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ed in hard copy or electronic for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s should consider content, writing and formatt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multimedia, transparencies, electronic presentations (PPTs), poster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ain text, tables, graphics, drawings and photograph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hould be based on carefully prepared written documents, such as written training material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ual aids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rove communic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hance the impact of present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sider recommendations for design, quantity of information, fonts, graphics, et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event should be based on a training needs assessment (TNA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gives an overview of the training programme and helps i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describes training methods, materials and course organis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s planning, preparing, implementing, monitoring, evaluating and following-up on course content and logistic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ourse director may be responsibl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 the overall course organis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e coordinator or committee may take care of content and another of logistic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work with checklists specifying responsibilities and schedu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needs assess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urse announce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Venu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rriculum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gramm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rticipa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ource peopl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material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alu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-up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maintains contact with resource peo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 should keep content lean:  KISS: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ep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ort and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pl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a little less than might be required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principle, coordinators should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oritise what trainees must, should or might lear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llow a logical organis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ve from general to specific, simple to complex, known to unknow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retarial service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catio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arrangeme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commodation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rastruc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ining facilit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nsl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quipmen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terial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cial activiti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mergency provis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consider climate, vegetation season, cropping pattern and cultural and religious calenda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portunities and facilities must allow practical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gistical arrang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duration should be shor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lan well in advance,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be prepared to plan on short no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need time to obtain official permission and visa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rse organis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organise carefully, use common sense, avoid last-minute improvisation …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… but be prepared to do 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urse organiser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background of the training ev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sess the initial situ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nalyse the root causes of problem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termine the goal for the expected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om goal to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should be based on a training needs assessmen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curriculum defines the knowledge, skills and attitudes (KSA) to be addres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curricul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pected learning outcomes,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ent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material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nstru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outcomes should be SMART  = 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ecific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sur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ievable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levant, 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me-boun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vague formulations,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ch as “to know” or “to understand”;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tter use "to explain"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n example of an 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completion of the PGIS Training-Kit, trainees will be able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opportunities and constraint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esign PGIS interventions;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llaborate with local communit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ke informed decision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29T16:22:11Z</dcterms:modified>
  <cp:revision>298</cp:revision>
  <dc:subject/>
  <dc:title>Presentation - Structuring th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