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97D1-9213-4BA7-87F2-08E78E6EAD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have to prepare our training facilitie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to schedule training activitie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e Appendix 1 of the Handout for Tra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e Appendix 2 of the Handout for Train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to manage timing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e Unit M03U05: Training Evalu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to apply training method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on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considerations for arrival and familiarization of participant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tional: Include Exercise No. 2 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CBBF-7C21-4AE0-8BDA-D5718D9763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78CA-C525-4388-9AE1-0A67DA6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3241-453C-48FC-9BF9-A5818306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D6CC-3BA9-40E4-89F2-ADEAD4F2D7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DA7D8-1325-4D08-97BB-BCD5F693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9A215-9C93-4709-8DA2-F1C57325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5C2BC-AF96-4F64-99BF-B186E8B8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D6256-B2A1-44D6-8CFC-3DA88FB4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B6EDE-F022-4AA1-A378-BCDB8D9C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8E45A-A1A8-46C3-89B1-BF4A23F1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9BDFA-1044-422B-AD0D-9824E868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12CD-1DE1-462F-9B43-319A0D4D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34518-4CC2-400D-9C46-18A6B399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612EF-6041-4973-B032-5AE271A0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EE15F-20E7-4AA9-BD8D-653B4160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F6AE0-572C-47AE-A4D4-760D8E66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D5701-791C-4650-BF45-BDDFCB04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9289-0065-4998-B686-23B319B1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24D9-9FE6-413D-A452-0E395C61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1A60-11B6-4E9F-BE62-B287490D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CC40-36D2-4384-9A1B-6F5E8A1A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8D70-173C-403F-BBB7-3403A0EF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6F38-034A-403E-949A-EE1488DD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C1E9-DA53-4BAB-8A99-95CEF72F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0E1C-D01D-4A7F-A35E-999E932310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4312-D80F-430C-8F23-C6B1E4F904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mplementing a Training Ev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environment should be pleasant, quiet and not allow distrac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nts and resource people should be kept togeth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entilation and good light conditions are need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range seating informal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void classroom seating in row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 activities require plenty of roo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provide materials for group wor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nslation facilities may be requir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verhead transparencies are preferabl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nder daylight condi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ideo/computer projectors (beamers) also work wel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lour slides require a darkened roo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facil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acilities and equipment should be tes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retarial services, ICT facilities and Internet connection should be available during and beyond course working hou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involve trainees in scheduling and execution of activi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ferably adapt logistical arrangements to course requirements,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ather than adapting the course schedul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o inconvenient local condi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introduce participants to the course objectives and programm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place the traditional course introduction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ith a participative discussion about expect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schedule initial time for a presentation of participants' work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n, move quickly to the course cont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rival and familiarisa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facilities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cheduling training activit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ime management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pplying training methods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oretical components should be practically-orien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entations should be combined with exercises and demonstra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schedule theory for the morning and practice for the afterno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eep evenings free for social learning activities, such as group work and discuss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time should not be dedicated to reading assignmen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ource people should cover content during course tim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keep weekends less intensive, but not abandon the traine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chedule course activities for Saturda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ffer sociocultural programmes for Friday evenings, Saturday afternoons and Sunday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work should not be interrupted with trave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ve less formal programmes, such as excursions, to the end of the cour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Scheduling training activit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 the course, trainees may be highly motiva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help trainees reintegrate themselves into their home sit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al group presentations get trainees reoriented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nage time strictly and intelligent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egin early (e.g. 08:00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uring the mornings, at least one break of 30 minutes is need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tention span of adults is 1½ hours. 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lunch break may take 1½ hou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noon sessions should finish not later than 17:00 hou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ime for social interaction and sports activities is usefu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introduce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keep trainees wait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egin each activity at the exact tim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ish at the planned tim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en the course is well-planned, implementation will be smooth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pleasant and quiet environment is essenti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ime should be managed strictly and intelligent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facilitate rather than teach and trai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andouts may be distributed one or several days before or at the end of a present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o not distribute handouts at the beginning of a presentation; because trainees will read instead of list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should not take no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assure that handouts contain all relevant inform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monitor the activities continuous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y should not abandon trainees and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ternative arrangements should be availab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Time manage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should evaluate each activity immediately after comple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 day should begin with a briefing from evaluations of the previous da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allow participation;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acilitate rather than teach and trai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lect training methods according to the objectiv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mphasise skills and attitude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licit collective knowledge through brainstorming and group work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rehearse their activities at the training si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nsure that all materials are availab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vise tim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actise using instruments, equipment, et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read, explain and summarise visuals complete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not include information that they cannot explai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pplying 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face the audience;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ever speak towards the scre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uide the audience by uncovering portions of inform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 “builds” so that information appears one point at a tim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 pointers only when needed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make sure that participants arrive easily and saf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amiliarise participants with the environmen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should feel well and comfortab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registration, organiser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check personal data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vide information about environment and faciliti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istribute the programme and material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rganisers should schedule arrival for Saturday, so that training can begin informally on Sunda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familiarisation among participa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should tour the faciliti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nts present themselves with personal inform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formation remains visible during the training ev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Arrival and familiar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formal or informal opening ceremony may be arrang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s releases and information about the course should be availab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Rainer Zachmann</dc:creator>
  <dc:description/>
  <cp:keywords>pgis training kit</cp:keywords>
  <dc:language>en-US</dc:language>
  <cp:lastModifiedBy>martens</cp:lastModifiedBy>
  <dcterms:modified xsi:type="dcterms:W3CDTF">2009-12-01T10:40:44Z</dcterms:modified>
  <cp:revision>324</cp:revision>
  <dc:subject/>
  <dc:title>Presentation - Implementing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