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C089-630C-46DB-889D-35F85F1389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e for the trainer: a complete description on how to use a Democracy Wall is available in Module M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actise "dartboarding" for a few minu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ow to apply pre and post-test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ow would you conduct a partial test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is the function of the continuous activity evaluatio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mediatel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fter each activity; it takes a minute only.  "Name" is optional to allow for clarification of doub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backside offers space for "Overall comments of the day"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the day, coordinators should collect the evaluation forms and summarise the results on these summary for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are the components of a final questionnaire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rainees to do a short exercise on the first qu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is the relevance of evaluatio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he trainees to do a tentative Final Course Evalu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5CF5-6FDD-47F0-80E2-FB5F8F9395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4AD7-4BC8-408C-A92B-A943598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A0C5-32DF-4DC1-95CA-D6F8FE4C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CE3C-B436-4202-9B19-9F147D6FE4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F098F-649D-4A94-9D4A-9C9CE10F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5B67E-77D7-4C73-A5D2-A2F8B51F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E8CA9-FD21-43DB-A1AC-7B4349D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CD61C-787A-4AD2-B2D6-6025F81C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17C64-727A-4AC6-A226-1C4B29A5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52EA5-4AC7-49EA-BD2B-F7027D75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020B9-E165-42C5-A7D4-711CC8DB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E7F0-BBE4-4BA0-A5AB-FEC81C31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019F5-5D7D-4775-9DF9-C4C789D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DD94E-0BB0-41C4-9DAE-E082D7ED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64F2B-161D-407D-B9C6-94911FD7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3EC94-EE86-4E42-A15B-37FB6226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7EDC0-5D21-41E4-9355-26D8D96C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D4B3-CBC8-4F32-AC4B-E918630A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E832-D025-4B93-872F-8B62DE75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FB1D-2557-42B3-855B-E68FD646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17C5-E993-455D-8250-D2DF569E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AAD8-7D01-4614-89A1-0937AB5F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FFC4-E9C3-42D4-B818-B50B99F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5A8F-D61A-4FB5-88C9-CCA6B094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3E89-AB88-4E75-9E82-9930233C86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E68C-5B1E-453D-95F2-6E543DE093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worldagroforestrycentre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3 (= behaviour) follows the application after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4 (= results) assesses impact at trainees' organis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is Unit addresses Levels 1 and 2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vels 3 and 4 are follow-up activities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s an essential and integral par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f the training curriculum, not just the end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termine training need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pecify training objective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just training methods and material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lete unnecessary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ecute training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erify accomplishment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llow-up with trainee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duce training cos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ng whether objectives have been accomplished is as important as specifying training objectiv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wo types of evaluatio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ative evaluation to monitor training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mmative evaluation to measure accomplishment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eachers and organisers often evaluate informally and unconscious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jective tests are based on specific questions to be answer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ponse tests give freedom for subjective express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actical skills testing is important for PGI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al evaluations includ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nitoring course climate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- and post-test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test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inued activity evaluation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coordination and course material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course eval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levance of evalu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nitoring course climate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- and post-tes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s are not intended to grade people, but to monitor course progres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 Course Clim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 course clim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y methods exist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mocracy Wall”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Dartboard” is useful for monitoring participants’ feeling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G_1442B&amp;W" descr=""/>
          <p:cNvPicPr/>
          <p:nvPr/>
        </p:nvPicPr>
        <p:blipFill>
          <a:blip r:embed="rId1"/>
          <a:stretch/>
        </p:blipFill>
        <p:spPr>
          <a:xfrm>
            <a:off x="826920" y="592200"/>
            <a:ext cx="7488360" cy="4983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2960" y="5646960"/>
            <a:ext cx="76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ingual democracy wall deployed at the 2007 Web2forDev Conference in Rome, 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oto: Anja Barth, C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Unit M10U01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art" descr=""/>
          <p:cNvPicPr/>
          <p:nvPr/>
        </p:nvPicPr>
        <p:blipFill>
          <a:blip r:embed="rId1"/>
          <a:stretch/>
        </p:blipFill>
        <p:spPr>
          <a:xfrm>
            <a:off x="826920" y="1255680"/>
            <a:ext cx="4608720" cy="44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5554800" y="3654360"/>
            <a:ext cx="2849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ylor, B. and Beniest, J.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in agro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A toolkit for trai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2.176; ISBN 92 9059 151 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ld Agroforestry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ed Nations A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 Box 30677, GPO 0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worldagroforestrycentre.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re-test assesses trainees' initial knowled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naires may be u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are difficult to design, but analysis is easy and object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consist of a "stem" and several options for answe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stem should be a concise statemen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at leads directly into the op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in the stem as much information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 possible about the ite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ulate the stem concisely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ach option should be a grammatically correct completion of the ste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consist of a stem an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definitely wrong distracter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ne correct answer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(an)other definitely wrong distracter(s).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inuous activity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coordin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materia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course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: Multiple-choice question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)  easy to develop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)  easy to answe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)  relatively objective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)  not widely applicable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nly one option should be the correct answer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rrect answers must not be self-evid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other options, i.e. distracters, should be plausible but definitely wro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length of options should not provid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clue to the answ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sk only relevant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negatively formulated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ange the answers in random ord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use multiple-choice questions when other evaluations are more appropria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present the pre-test at the beginning of the cou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be honest and not to gues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alyse the test immediat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iscuss results with trainees and resourc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give the questionnaires bac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the same questionnaire for the post-tes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 the post-test one day before the course end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alyse the test overn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mpare pre- and post-test results and present them to trainees and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tests help ensure that resource people cover subject matter appropriate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use partial tests to grade traine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use the first 15 to 20 minutes of each day for the partial tes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four or five questions from topics of the previous da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open essay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design questions and expected answers (both!) in collaboration with resourc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artial tests should only cover relevant course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rainees to use open books, training documents, etc. to place them in a real life situation where they may consult referenc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s an essential part of the training curriculu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in many aspects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shows whether objectives have been accomplish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nalyse answers immediately with instruc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turn tests to trainees and discuss resul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e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beginning of the course, explain how to use the eval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be critic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morning, coordinators should distribute new evaluation form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evaluate immediat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end of each activity, write the title of the activity on a board to remind trainees to evalua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end of the day, coordinators should collect the evaluation form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mmarise results on the summary form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include trainees in processing the evalu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draw conclusions and report them back to the class the next mor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give the summaries to the resource people and discuss the resul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eep copies in the files for future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2720" y="981000"/>
            <a:ext cx="7991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0000" cy="497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42920" y="471600"/>
            <a:ext cx="6985080" cy="56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tools may range from objective tests to subjective assess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ne of the evaluation procedures described are intended to grade trainees or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valuation of Course Coordination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and Course Material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valuation of course coordina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ource people evaluate the suppor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iven by course coordina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dapt the sample to specific need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resource people to return the evaluation after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30480" y="652320"/>
            <a:ext cx="6696000" cy="532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valuation of course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source people evaluate materials included in the PGIS Training Kit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enever you use some of the PGIS materials (e.g. Unit Trainer Notes, Exercises, Handouts, PowerPoint Presentations, etc.), return your evaluation to the course coordinato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01680" y="530280"/>
            <a:ext cx="6697800" cy="577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assess the course’s overall acceptability, strengths and weaknesses and to provide sugges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dapt the sample to their nee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first question - general opinion on the course - is arranged so that ideal answers result in a diagonal pattern from top left to bottom r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428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First ques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2200" y="1563840"/>
            <a:ext cx="7921800" cy="431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 important aspect is the balance between theory and prac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usually criticise having too much theory and not enough prac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Question 7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862280"/>
            <a:ext cx="7991280" cy="37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estions like “What topics should have been extended?”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e not conclusiv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wish to extend almost everyth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better question would be “What topics should have been reduced or omitted?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ask “What topics have been most useful?”: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find almost everything most usefu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stead, ask “What topics have been least useful?”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may ask “What new topics should be included in the future?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give questionnaires to trainees several days before the course en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lect questionnaires the day before the course en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tract the most relevant conclusions overn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iscuss the conclusions with trainees the next mo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the course, coordinators should summarise the questionnai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the summary in the final course repor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fer to the results when planning the next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Last question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1398600"/>
            <a:ext cx="7777440" cy="48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irkpatrick’s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vels of training evaluatio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1 = reac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2 =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3 = behaviou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4 = resul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1 (= reaction) measures participants’ satisfa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owest level of measurement, nonetheless import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cludes aspects before and during the cours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2 (= learning) measur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cquisition of new knowledge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mprovement of skill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hange in attitud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Rainer Zachmann</cp:lastModifiedBy>
  <dcterms:modified xsi:type="dcterms:W3CDTF">2010-06-30T10:25:25Z</dcterms:modified>
  <cp:revision>455</cp:revision>
  <dc:subject/>
  <dc:title>Presentation - Training Eval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