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765-8BC3-4262-B769-272A401662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of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 brainstorm with trainees about keywords related to this question: In what sense do adults learn differently than children?  See Exercise No.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k the trainees what they know about ODL, OER, FLOSS and C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is the context of Unit M03U01 and the entire Module M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 with an exercise on Personal Styles (Exercise No. 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ll the attention of the trainees to the source and move to the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rning follows a continuous progression of experience-action-refle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What concepts and perspectives of learning do we know? See Exercise No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7499-ED98-4122-AA02-6B7E629D6B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DC11-551C-42F2-9265-416EB32E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EBE2-4926-48B4-857C-DCF856F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B4AE-827B-47D1-B1FC-BBF631830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FDDAD-1402-474B-B980-EAC41611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749C2-66D4-4616-96CA-E096B2F6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358B2-005B-4413-9492-F357200F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D7B44-F7C1-4B2E-854F-6A5B5795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CAB74-A92D-4D59-9689-29E0496A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A840E-80AE-4A11-A704-0E41E0B1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DDE76-51B6-4168-AA2D-ECA574EC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F4CF-3944-4F69-A639-C5E90E8F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A729B-149C-4939-8919-ECE84E5F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7EC2F-44AF-4287-AA69-B1E93FBC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E6782-302C-479C-AD6D-1B5D0E0F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F514E-015D-4A4A-A62B-17DA7933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5DE7B-78E4-4EB4-9FF6-1BEEA484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36D4-99A2-4A7A-B70F-65F76285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184F-B48A-47E5-BA0A-12479B3C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8CC2-EB17-4EDF-B3DD-998661B0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ACE5-7FEE-4E5F-AF36-C6CD28D9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0B93-8DC4-418A-9AA3-3C8DCB65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3DD0-6846-4D97-A0C2-8A9F8500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AAE2-B55B-429A-9AEF-098D672A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E096-603E-43DC-8C9D-0BD9442312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98A1-4B51-4364-82B9-BA95698BB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worldagroforestrycentre.org/" TargetMode="Externa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ics of Trai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eaching and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eaching causes other people to develop skills and knowled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ing is a broader concep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ers are not necessarily linked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ith an educational organis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ducation and trai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ducation is broad and gener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is short and specific and has concise objectiv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ar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ditionally: formal face-to-face teach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pen and distance learning (ODL): a new technolog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formation and communication technologies (ICT) enhance lear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arning method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est method combines several sen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ethods should be selected according to learning objectives.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inciples of 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learn differently than childre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chieving objectives is the trainees’ responsibilit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control their own lear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need to see the relevance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should relate to adults' working experien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ctive participation should be encourag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that gives satisfaction stimulates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 one training method by itself is best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ariety of methods is useful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ethods should relate to the learning content (KSA).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like to discover or elaborate solutions (i.e. experiential learning)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like to compare achievements with standar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 exercises are often more effectiv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an individual learning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dividual learning may meet the specific needs of individual learne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 need to see the whole pictur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aspects of training should relate to each oth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should follow a logical ord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rogramme should move from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eneral to specific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-  simple to complex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-  easy to difficul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periential learning cycl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arning concepts and perspectiv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inciples of adult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cent develop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should be within trainees' abiliti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materials should be specific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o training topic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environment and tone should be encouraging and pleasa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ults’ attention span is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1½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hou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tention is best in the morning, decreases towards noon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tention is low after lunch, may increase late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Knowles’ principles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 adult learning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3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ults need to know why they need to lear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ior experiences provide a resource for learning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ults learn to cope with a situ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ults’ orientation to learning is life-centre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motivation for adult learners is intern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cent Develop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and Distance Learning (ODL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DL can meet increasing learning need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y approaches to ODL exis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and Distance Learning (ODL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paration of learners and teachers in time and/or space,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stitutional accreditation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ixed-media (e.g. print, radio, computer)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and Distance Learning (ODL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haracteristics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wo-way communication between learners and tutors, 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eriodic face-to-face interaction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se of industrialised processes in large-scale ODL operation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and Distance Learning (ODL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ther term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rrespondence education,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ntinuing education,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lexible and distributed learning,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-learning and virtual learning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echnology-mediated educ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Educational Resources (OER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ER offer new perspectives to learni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cept of OER is a new (r)evolu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ER extends access to learning to everyon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Educational Resources (OER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ER are digitised learning materials for free use and reus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ew or no copyright restrictions (like FLOSS)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ER include full courses, course materials … and the PGIS Training Kit.</a:t>
            </a: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kit for Participatory Spatial Information Management and Communication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of trainers on fundamentals of training delivery and facilit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Open Educational Resources (OER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knowledge divide may be more serious than the digital divid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ree sharing of OER allows broader and faster dissemination of inform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reative Commons (CC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cept of open copyright licenc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2002 officially released to the publi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omotes creativity in the public domai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pectrum of possibilities between all rights reserved and no rights reserv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thors keep their copyrights while allowing certain uses of their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reative Commons (CC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C licenses can be combin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tribution - Share Alike (BY-SA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Experiential Learning Cycl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Experiential Learning Cycle" descr="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179280" y="1700280"/>
            <a:ext cx="4202280" cy="3606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88320" y="2421000"/>
            <a:ext cx="469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ylor, B. and Beniest, J. 200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in agroforestry - A toolkit for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2.21. ISBN 92 9059 151 x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ld Agroforestry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d Nations Aven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irobi, Keny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worldagroforestrycentre.or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amework for 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Experiential Learning Cycle" descr="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179280" y="1700280"/>
            <a:ext cx="4202280" cy="3606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01480" y="3346560"/>
            <a:ext cx="284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v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xperienc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ramework for adult learn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earning Concepts and Perspectiv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eneral recommend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events should be shor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akeholder involvement is importa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stitutional capacity building and training of trainers should be promo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Knowledge and inform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Knowledge and information are not separable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and learning turn information into knowled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Rainer Zachmann</cp:lastModifiedBy>
  <dcterms:modified xsi:type="dcterms:W3CDTF">2009-11-27T00:58:28Z</dcterms:modified>
  <cp:revision>129</cp:revision>
  <dc:subject/>
  <dc:title>Presentation - Basics of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