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EE75-F133-4E5A-B934-31C7BC63A2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pproaches of TNA can we apply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would you conduct a semi-structured interview regarding the: a) art of interviewing; and  b) content?"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See Exercise No. 1. Write keywords onto a flipchart and then continue with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the Handout4T for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the Handout4T for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2; continu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 we need to assess training nee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F1EF-92F9-42C0-918E-8574D28EE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1C2E-C37E-48BF-AA0D-D5D02FF0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669A-6BDD-43D0-A4E4-F19401A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E480-38A0-40C7-86C0-AE8A8BEFA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195D6-A22B-4D70-9DCE-B06426B1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86853-0C18-4F07-8D06-C887E22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EC218-D447-4B82-B09F-2599D24B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49580-E085-4A66-8E09-2125C7EF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50990-92E8-408F-962F-14CA986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6B192-14EE-4B78-918D-59EB6C54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A2D3D-898A-41EC-8B68-326BCA2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71F5-37F0-4C60-A991-821B3465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8451E-1B2E-4448-BC7E-3009E1C5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92EFC-7300-4CCB-A370-0623DEA6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0ED38-66BB-40FD-B3A9-2E2B8705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6785C-3436-4E63-9056-4512AEA0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016F1-CB10-4E90-8905-75C4D8B8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513F-FE5D-4D94-9AC4-899348C4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E5A2-770B-4DC1-ACAF-F7D136AB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410B-2E90-4593-A079-3393925C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50F9-6672-40FA-8C91-1EFA11D0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B540-FC0E-47B4-94C9-EFDDE43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ABF8-EDF6-451B-9B3F-27BC28D1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A603-0691-4FBB-825D-D5369D24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9DC-E75A-48D9-94AE-CB419307C5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16A-29E2-498E-893B-3037ED2795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Needs Assessment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(TNA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oes TNA determine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ther there is a real training ne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root causes of poor performa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desired performance level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(i.e. the expected results of training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oes TNA determine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aseline data for planning content and scope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ssible support from stakeholders, concerned organisations and prospective participan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12960" y="2130120"/>
            <a:ext cx="554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of Training Needs Assessment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ecide to what extent these steps are relevant for TNA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stakeholders with relevance to the training proces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sk about their expectations, concerns, suggestions, possible conflicts of interest, etc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challenges that require training.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actors for TNA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depends 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ertise presen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available and costs involve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liability and importance of inform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umber and location of people involve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fidentiality of data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lture and social climate within an organis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Job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about job frequency, importance and difficul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stimate prior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view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Yield in-depth information, background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d suggestion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dividual interviewing is labour-intens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s of relevant people may be interviewed toge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ke sure to get viewpoints of everyone, not just of the most outspoken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Questionnai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specific information from a large group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naires may not allow for free express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servation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assess skills, attitudes and behaviour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der real situation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servations are time-consuming and labour-intens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kills and knowledge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kills tests assess skill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appropriate performance may be due to lack of knowledge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nowledge tests complement skills te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y assess training need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pproach of TN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mi-structured interview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erformance data review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dentify possible performance gaps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rough data review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ufficient performance may be confounded with external factors that cannot be solved through trai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makes sure that challenges can be addressed by train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-training measures may be need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iscuss steps with the institutions and people concern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emi-structured Interviewing (SSI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view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views are useful for gathering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ut interviewing requires skills and techniqu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emi-structured interview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mi-structured interview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requires considerations 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art of interviewing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tent of the interview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uidelines for note tak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needs assessment (TNA)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s guidance for a productive training ev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it M03U02 helps to plan and implement T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clarifies whether training is the solution to a probl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ecide how the factors described are relevant for TN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on PGIS is diverse and complex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should be an open-ended, flexible and dynamic proces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training programme depends on the contex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determines the current and desired performance; the difference, or gap, is the needed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includes the political, economic, social and cultural environment and the physical and human resources available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collects information on knowledge, skills and attitudes (KSA) needed for the job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involvement of trainees is necessary to ensure a sense of ownership commitment, and accomplishment of objective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clude relevant stakeholde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keholders help identify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ources of inform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ministrative and technical challeng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ssible obstacles and proposed solu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09-11-27T17:03:57Z</dcterms:modified>
  <cp:revision>151</cp:revision>
  <dc:subject/>
  <dc:title>Presentation - T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