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C9ED-5813-4FD9-9226-32CD77CA22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6289-F9C5-4EF4-A761-7744408A7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 for the pres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Please study the Handout for Trainee of Unit M11U01 before using this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672C-9C45-4165-98A7-C4182BE8D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80B6-9026-4B2C-A995-AD0AEEA4F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926E-0B76-4DFE-BEC8-F81368508C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2F10-1CE5-4BD8-8706-A01B2CB85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9597-D1B4-48AD-8A7D-1272B191F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CF69-50D2-42B2-BFD8-7D7884F1E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3D28-9C18-4F46-A964-454FD5650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3FB4-2097-445E-B780-45C09C873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DE72-D23B-4832-816E-496A3B38E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14E0-2AEB-491D-89D5-925AE0068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is is a list of popular sensors. An elaborate description of these sensors is available in the Handout for Train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908E-4D50-4A4D-ACE4-A5BB65730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949D-5373-4D54-B75B-BB5AA2618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F04A-D442-479F-8CED-AC8A1093BC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9292-02A0-426C-9583-89AC2C690F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DB15-EF2F-41F8-8674-1F0B7DA1E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12A9-D082-4E6C-AB7D-66D82C68F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E00-803D-4D51-9AE6-983180CEA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3A56-37F8-4FA2-8FC0-2AA08A802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BA3E5-5646-4371-911D-995E52609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6AE1-EDFB-49E6-B533-729F5089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6E95-D736-46ED-8B7C-73C70F29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8C06-AC5E-4A45-AA81-10ED9CDFAD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1E485-D656-4DB9-8B01-0257CBE7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111AF-D245-4FC6-BAD2-77DB42BD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EB3FF-C40C-41CB-8980-55F68A22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E0491-D6D1-4B3D-A2E3-4271697C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EE811-8DB8-4764-81CD-D52476ED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AB731-B5FF-4C1A-BDBE-AE0F5003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E3BE9-6E38-4908-A786-F892E4E8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4967-96CA-4A00-AAF8-8E391B69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CB488-6974-4F6E-917E-75AD85B2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8BC4D-8EC2-4A23-965C-6F7C6398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80487-C659-4F38-90CC-36E5D7A1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3B0E0-5339-4733-8C36-83277DB9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02646-8D3B-42E2-A158-DB60E607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695C-389C-431E-B751-7400EF65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762F-29FE-464A-91F2-ABDAC287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5974-3844-4A89-919C-18A71695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FFAE-237F-426B-B498-3D48B822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5B10-A1A2-41EE-8B63-E369DFE1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2094-3839-4881-84A0-8CB51579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9C72-A92D-4D9E-ABF5-E6285234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1170-A94F-47DB-8B8A-3C455F9B22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22F1-8256-43D3-955E-45B36924AF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Introduction to 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Remote Sensing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430440" y="51436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J.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1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 most mapping applications, vertical aerial photographs are requir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blique photographs are obtained when the axis of the camera is not vertic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blique photographs are rarely used for mapping purpo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ctromagnetic energ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mote sensing is based on detecting electromagnetic (EM) energ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ince the speed of light is constant, wavelength and frequency are inversely related to each othe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7" name="Picture 4" descr="fig2-3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Visible spectr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Visible light covers only a very small part of this spectru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0" name="Picture 4" descr="fig2-5"/>
          <p:cNvPicPr/>
          <p:nvPr/>
        </p:nvPicPr>
        <p:blipFill>
          <a:blip r:embed="rId1"/>
          <a:srcRect l="0" t="0" r="0" b="10544"/>
          <a:stretch/>
        </p:blipFill>
        <p:spPr>
          <a:xfrm>
            <a:off x="468360" y="1197000"/>
            <a:ext cx="82072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tmospheric interferen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5320" y="1600200"/>
            <a:ext cx="38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Interactions of the Sun’s energy with physical materials cause this energy to be absorbed, scattered, transmitted and reflect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Picture 4" descr="fig2-6"/>
          <p:cNvPicPr/>
          <p:nvPr/>
        </p:nvPicPr>
        <p:blipFill>
          <a:blip r:embed="rId1"/>
          <a:stretch/>
        </p:blipFill>
        <p:spPr>
          <a:xfrm>
            <a:off x="611280" y="476280"/>
            <a:ext cx="46130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An electronic sensor “measures intensity” of the terrain and the analog electrical signal is sampled in an image and converted to a digital number (DN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6" name="Picture 4" descr="fig12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A digital image is normally displayed using a grey sca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A pixel having the value zero is shown as black; a pixel having the value 255 is shown as white. Any DN in between becomes some shade of gre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 alternative way to display single-band data is to use a colour scale to obtain a “pseudo-colour” imag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lours can be assigned (ranging from blue via cyan, green and yellow to red) to different portions of the DN range from 0 to 255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Sometimes a true colour composite is made, where the RGB channels relate to the red, green and blue wavelength bands of a camera or multispectral scann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The most striking characteristic of false colour composites is that vegetation appears in a red-purple colou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Represen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Natural colou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Psuedo-natur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False colou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467240" y="88920"/>
            <a:ext cx="46767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Popular spaceborne sensor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LANDS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(TERRA) AST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SPO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ISR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IKONOS, QuickBird, WorldView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What is remote sensing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mote sensing (RS) is the art, science, and technology of observing an object, scene, or phenomenon by instrument-based techniqu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What is remote sensing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S is applied in many fields, including architecture, archaeology, medicine, industrial quality control, robotics, extraterrestrial mapping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interest for this Module is, however, Earth observation from airborne or spaceborne platform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What is remote sensing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 this Module, aerial photographs and satellite imagery are both considered to be a type of remote sensing ima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aking and using photographs is the oldest, yet most commonly applied, remote sensing technique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erial photos are the prime data source for medium- to large-scale topographic mapping, many cadastral surveys, civil engineering projects and urban plan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erial photographs are also a useful source of information for foresters, ecologists, soil scientists, geologists and many othe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wo broad categories of aerial photographs can be distinguished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ertical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blique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Vertical vs. obliqu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71760" y="2214720"/>
            <a:ext cx="54799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Vertical vs. obliqu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23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00200" y="162864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-1080" y="4274640"/>
            <a:ext cx="125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4340160" y="1628640"/>
            <a:ext cx="43974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Jeroen Verplanke</dc:creator>
  <dc:description/>
  <cp:keywords>pgis training kit</cp:keywords>
  <dc:language>en-US</dc:language>
  <cp:lastModifiedBy>martens</cp:lastModifiedBy>
  <dcterms:modified xsi:type="dcterms:W3CDTF">2010-08-09T12:45:21Z</dcterms:modified>
  <cp:revision>32</cp:revision>
  <dc:subject/>
  <dc:title>Presentation - Introduction to Remote Sensing Im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