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469-39D7-4047-83FC-EE3176EC75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61E7-68EA-4664-886B-C8072D02C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the Handout for Trainee before using this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CF27-13CB-4810-895B-A7FD72187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8659-FDCC-40B5-AA76-1970B06356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DCA-A82E-4CDB-B8B1-0B3551294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F05F-B862-4D2B-86F7-1DCF773937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9023-84BB-4433-8FC6-C44DD26D3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1E1-A57C-46DD-86DA-47C880D90C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9DEC-2955-44DF-8FA1-012603CF1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727E-9E65-46B0-90E2-A320D01B0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E151-4590-4694-B27C-E1443AF42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2B74-2A6B-49C9-B100-A96A80260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AD78-AD1B-4604-AE0E-6D77498F22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7BF4-A00B-4670-9E2D-450501A95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FDA8-29FF-4BF1-B76C-798F610969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D20A-ECCF-4B73-A813-8849F4948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14CA-CA70-4E9E-8BDB-A24A7BA7D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BBFB-F4FC-4C58-BCB6-D987FC4FF1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DBE-928C-4CD8-AB8E-B642DD0B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22E-3D27-40D0-B04B-2E0B2736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A44-E695-449A-A585-49B5E83D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5FD-DC9D-48C3-8AB8-C68FE720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CCB16-412A-4A79-A5EC-71F9FFF3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19087-95F2-4E61-8CD8-E1D2661A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989F7-2FA1-41DF-9FEF-795809D0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60ED2-1825-40D2-BC0E-B63EC57A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A404-C184-45AF-BD5E-366C5734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2B584-A046-48FC-B500-330C6AF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97B22-5727-4469-91EA-0F4969E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A14-8534-4302-81F6-DB0C6C53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1B0EA-511D-49E2-90A7-1D61BCE7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38D64-B0BF-4E61-AA01-241BA0E9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955CB-94C3-4069-9C60-1C39B7A5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5802A-7964-4333-AEF3-45F0D92B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123DF-2A4C-48EC-BD52-B491650C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9D6-AC46-4BEF-8F55-D1A72FB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BA3-7B45-4F86-A4E3-2B16595F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433-9009-45EE-B087-FDF20C4B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CFD-8965-4371-8A2C-678AAE7F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5FF-D892-48A0-9387-C5A99BA7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858-C13C-407B-B4D3-CCFD558C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200-B59F-4337-AC94-A617551E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2415-FBC9-4AFC-AEA3-943F93CF47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A015-1661-45BB-9B47-BC5ED5EE1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nterpreting Aerial Photos and Satellite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438360" y="51577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hape or form characterises the two-dimensional projection and the height of an objec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ize can be considered in a relative or absolute sen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eight is important for distinguishing among different vegetation types, building types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tion/association refers to the situation in the terrain or in relation to its surrounding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ne or hue can be defined for a single pi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xture is defined for a group of adjacent pixels, not for a single pi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other interpretation elements relate to individual objects or to a combination of objec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interpretation process involves delineating areas which appear similar and which are also different from other are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fter establishing the features on the ground, “interpretation keys”’ can be construc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ased on these keys, an interpretation of features can be made; these are described as interpretation ele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545" t="560" r="724" b="0"/>
          <a:stretch/>
        </p:blipFill>
        <p:spPr>
          <a:xfrm>
            <a:off x="539640" y="1627200"/>
            <a:ext cx="74660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re is a limit to what can be draw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 practice, polygons smaller than 5 x 5 mm should not be drawn: the "smallest allowable unit"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scale of the image(s) thus limits the interpretation cell on the groun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Fieldwork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s should reflect what is actually on the groun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ield visits observe what is there in reality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uring fieldwork, the location of boundaries is verifi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ata are gathered about features that can not be derived from remote sens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Qual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quality of image interpretation depends on th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ofessional experience of photo-interpreters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mages used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pretation guidelin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se three points ensure the replicability of the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cc3300"/>
                </a:solidFill>
                <a:latin typeface="Arial"/>
              </a:rPr>
              <a:t>Replicability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plicability refers to the degree of correspondence obtaine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y different persons for the same area; 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y the same person for the same area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t different instanc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Replicabil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4" name="Picture 4" descr="fig11"/>
          <p:cNvPicPr/>
          <p:nvPr/>
        </p:nvPicPr>
        <p:blipFill>
          <a:blip r:embed="rId1"/>
          <a:stretch/>
        </p:blipFill>
        <p:spPr>
          <a:xfrm>
            <a:off x="468360" y="1709640"/>
            <a:ext cx="82072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mage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ow is information extracted from image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isual image interpretation (in this Unit)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emi-automatic processing by compu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mage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Visual interpretation is based on relating colours and patterns to real-world featur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mages can be displayed on a computer monitor or in hard copy for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ping conveys the finding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alysing an image is typically done through a combination of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irect and “spontaneous recognition”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sing several clues to draw conclusions through a reasoning process (i.e. “logical inference”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pontaneous recognition refers to identifying objects or features at first glan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3" name="Picture 7" descr="Central Pivot.jpg"/>
          <p:cNvPicPr/>
          <p:nvPr/>
        </p:nvPicPr>
        <p:blipFill>
          <a:blip r:embed="rId1"/>
          <a:srcRect l="32182" t="0" r="0" b="0"/>
          <a:stretch/>
        </p:blipFill>
        <p:spPr>
          <a:xfrm>
            <a:off x="4214880" y="1571760"/>
            <a:ext cx="437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gical inference means that the interpreter applies reasoning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6" name="Picture 4" descr="fig11"/>
          <p:cNvPicPr/>
          <p:nvPr/>
        </p:nvPicPr>
        <p:blipFill>
          <a:blip r:embed="rId1"/>
          <a:srcRect l="0" t="0" r="45347" b="0"/>
          <a:stretch/>
        </p:blipFill>
        <p:spPr>
          <a:xfrm>
            <a:off x="4143240" y="1571760"/>
            <a:ext cx="455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even interpretation elements provide guidelines to recognise certain object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one/hu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height/elev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ocation/associ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ne is the relative brightness in a black-and-white image. Hue refers to the colour spa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onal variations are related to the amount of light reflected (or emitted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ariations in hue are related to spectral characteristic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human eye has a greater sensitivity for hue (10,000 colours) than for tone (200 grey levels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xture relates to the frequency of tonal change and may be described as coarse or fine, smooth or rough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attern refers to spatial arrangement: concentric, radial, checkerboard, rivers with their branches, patterns related to erosion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Jeroen Verplanke</cp:lastModifiedBy>
  <dcterms:modified xsi:type="dcterms:W3CDTF">2010-06-21T09:55:30Z</dcterms:modified>
  <cp:revision>59</cp:revision>
  <dc:subject/>
  <dc:title>Presentation No. 1 - Interpreting Aerial Photos and Satellite Im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