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666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259A-D712-4B42-8C9A-3565FA7970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6B10-D701-42B4-93CD-C36668AEB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Exercise No.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7AB3-D3CC-47DE-AF29-53181BFE2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4F74-FE98-4598-9A55-636553C63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740B-A011-4EB3-A40A-DFC31AE5D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F410-1075-4A59-AC70-95524BD54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4C8C-41F9-4F67-8745-B21D1EBE2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A2E9-6C2A-48FA-85F1-FC0D6D5FB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F121-7014-4804-9AA6-4275268387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2AA5-AA08-4FC6-9575-9D1D011914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FE2B-AAE6-4132-ADC1-BFA90730BB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D8A7-CCB8-4D71-BA56-82D95F02E2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3895-02EC-4642-9320-642725DB7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D03E7-20A0-4880-A459-51E3CDA657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FD15-7979-4A43-BAC6-BB6E9D5A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26C0-6249-449C-95B8-4CEBC21B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602F-36F7-4C79-B853-48F878D9AB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DE745-8D83-4691-A864-71707EDA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FD3F5-3FFE-4295-9E77-72C5B34E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CC8C0-11DF-47FA-9F06-36A89CF8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8744C-DCC0-4C09-B063-EDB6A6F7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95869-1107-4FF3-A625-39783269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CDAD1-3D74-4072-989F-353E9364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40CB0-AE79-448D-9A65-45EC73D0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59FE-AFE0-4FDF-99DE-729620D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DF9C3-B48D-4F7C-96C2-CE424D46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D6C7E-AFDC-4527-B2A4-14E38DE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CF4E8-167F-4A22-AFFD-3970F59F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78CEA-D0DE-4AF6-908E-377FA4EF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97270-CD59-490A-9090-25E77B5A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DF77-53DD-44DB-BAAD-1A4C271C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4AB6-4DF1-4EFF-AC59-FB0863AE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0D8D-03EF-4A24-BBAC-EA981DA2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027C-BF22-432B-BC7B-6F62919E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04EE-2C5F-49ED-9E61-E35357D0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E8D5-F108-4BB4-B285-B655CD21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7687-E32D-4349-8F8A-46495635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BB32-6937-4D46-ACEB-582310F904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29AC-8B9E-4AC5-87E5-09CB40124D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16200"/>
            <a:ext cx="7772400" cy="18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xercise No.1: </a:t>
            </a:r>
            <a:br>
              <a:rPr sz="4400"/>
            </a:b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and-cover Mapping with Aerial Photographs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384720" y="55008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Jeroen Verpl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3: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ractical hint: Start with the clearest (easiest) units firs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Optional assignment: Field surve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purpose of the field survey is to observe the different interpretation units on the aerial photographs in realit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ssess whether  the land cover and land use are consistently the same within one interpretation uni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Optional assignment: Field surve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ssess the land cover and land use at several places in each uni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lways ensure the participation of local residents to assist you in finding your way around the are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Optional assignment: Field surve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6" name="Picture 4" descr="Bild2"/>
          <p:cNvPicPr/>
          <p:nvPr/>
        </p:nvPicPr>
        <p:blipFill>
          <a:blip r:embed="rId1"/>
          <a:stretch/>
        </p:blipFill>
        <p:spPr>
          <a:xfrm>
            <a:off x="755640" y="1268280"/>
            <a:ext cx="4849920" cy="4926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ild2"/>
          <p:cNvPicPr/>
          <p:nvPr/>
        </p:nvPicPr>
        <p:blipFill>
          <a:blip r:embed="rId2"/>
          <a:stretch/>
        </p:blipFill>
        <p:spPr>
          <a:xfrm>
            <a:off x="755640" y="1281240"/>
            <a:ext cx="4849920" cy="4925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5718240" y="4329720"/>
            <a:ext cx="310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able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ield data observation sheet for land cover and land use</a:t>
            </a:r>
            <a:r>
              <a:rPr b="0" lang="de-DE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ssignment 4: Interpreting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multi-temporal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-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113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2056680" y="5395680"/>
            <a:ext cx="49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6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Wesseler1969"/>
          <p:cNvPicPr/>
          <p:nvPr/>
        </p:nvPicPr>
        <p:blipFill>
          <a:blip r:embed="rId1"/>
          <a:stretch/>
        </p:blipFill>
        <p:spPr>
          <a:xfrm>
            <a:off x="1092240" y="1989000"/>
            <a:ext cx="3063960" cy="34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Wesseler2009"/>
          <p:cNvPicPr/>
          <p:nvPr/>
        </p:nvPicPr>
        <p:blipFill>
          <a:blip r:embed="rId2"/>
          <a:stretch/>
        </p:blipFill>
        <p:spPr>
          <a:xfrm>
            <a:off x="5045040" y="1989000"/>
            <a:ext cx="2975040" cy="3456000"/>
          </a:xfrm>
          <a:prstGeom prst="rect">
            <a:avLst/>
          </a:prstGeom>
          <a:ln w="0">
            <a:noFill/>
          </a:ln>
        </p:spPr>
      </p:pic>
      <p:sp>
        <p:nvSpPr>
          <p:cNvPr id="165" name="Line 14"/>
          <p:cNvSpPr/>
          <p:nvPr/>
        </p:nvSpPr>
        <p:spPr>
          <a:xfrm flipH="1" flipV="1">
            <a:off x="2916360" y="2707920"/>
            <a:ext cx="71280" cy="33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 flipV="1">
            <a:off x="7651440" y="3557160"/>
            <a:ext cx="88920" cy="374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030320" y="57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Figure 5: Abundance of land-cover change over 40 years; a new urban area in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ssignment 4: Interpreting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multi-temporal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-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113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055600" y="4906440"/>
            <a:ext cx="474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8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2916360" y="2707920"/>
            <a:ext cx="71280" cy="33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 flipH="1" flipV="1">
            <a:off x="7651440" y="3557160"/>
            <a:ext cx="88920" cy="374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1030320" y="5373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Figure 6: Land-cover change over 10 years in an urban area in the Netherlands; hard to see differences</a:t>
            </a:r>
            <a:r>
              <a:rPr b="0" lang="de-DE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Horst1989"/>
          <p:cNvPicPr/>
          <p:nvPr/>
        </p:nvPicPr>
        <p:blipFill>
          <a:blip r:embed="rId1"/>
          <a:stretch/>
        </p:blipFill>
        <p:spPr>
          <a:xfrm>
            <a:off x="1071720" y="1989000"/>
            <a:ext cx="3068640" cy="2927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Horst1998"/>
          <p:cNvPicPr/>
          <p:nvPr/>
        </p:nvPicPr>
        <p:blipFill>
          <a:blip r:embed="rId2"/>
          <a:stretch/>
        </p:blipFill>
        <p:spPr>
          <a:xfrm>
            <a:off x="4824360" y="1989000"/>
            <a:ext cx="317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 practise the basic concepts of land-cover and land-use mapping based on aerial photo interpretation, and make a preliminary interpretation legend based on photo characteristic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our assignments and an optional field survey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1: Investigating an aerial photograph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2: Preliminary legend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3: Interpretation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ptional assignment: Field survey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4: Interpreting multi-temporal images for land-use change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1: Investigating an aerial photograph</a:t>
            </a:r>
            <a:r>
              <a:rPr b="0" lang="de-DE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8" name="Picture 5" descr="Horst1989 zoom"/>
          <p:cNvPicPr/>
          <p:nvPr/>
        </p:nvPicPr>
        <p:blipFill>
          <a:blip r:embed="rId1"/>
          <a:stretch/>
        </p:blipFill>
        <p:spPr>
          <a:xfrm>
            <a:off x="971640" y="1701720"/>
            <a:ext cx="4392360" cy="429264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4"/>
          <p:cNvGrpSpPr/>
          <p:nvPr/>
        </p:nvGrpSpPr>
        <p:grpSpPr>
          <a:xfrm>
            <a:off x="2124000" y="2494080"/>
            <a:ext cx="3240000" cy="2736360"/>
            <a:chOff x="2124000" y="2494080"/>
            <a:chExt cx="3240000" cy="2736360"/>
          </a:xfrm>
        </p:grpSpPr>
        <p:sp>
          <p:nvSpPr>
            <p:cNvPr id="100" name="Oval 20"/>
            <p:cNvSpPr/>
            <p:nvPr/>
          </p:nvSpPr>
          <p:spPr>
            <a:xfrm>
              <a:off x="3008880" y="249408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9"/>
            <p:cNvSpPr/>
            <p:nvPr/>
          </p:nvSpPr>
          <p:spPr>
            <a:xfrm>
              <a:off x="2124000" y="428400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8"/>
            <p:cNvSpPr/>
            <p:nvPr/>
          </p:nvSpPr>
          <p:spPr>
            <a:xfrm>
              <a:off x="4381200" y="407052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7"/>
            <p:cNvSpPr/>
            <p:nvPr/>
          </p:nvSpPr>
          <p:spPr>
            <a:xfrm>
              <a:off x="3567960" y="274140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2140920" y="4571280"/>
              <a:ext cx="35280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4814280" y="412776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29"/>
          <p:cNvSpPr/>
          <p:nvPr/>
        </p:nvSpPr>
        <p:spPr>
          <a:xfrm>
            <a:off x="5724360" y="49035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e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Detail of photo </a:t>
            </a:r>
            <a:r>
              <a:rPr b="1" i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Horst1989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2: Preliminary legend 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-47160" y="1309680"/>
            <a:ext cx="6491520" cy="5688720"/>
            <a:chOff x="-47160" y="1309680"/>
            <a:chExt cx="6491520" cy="5688720"/>
          </a:xfrm>
        </p:grpSpPr>
        <p:pic>
          <p:nvPicPr>
            <p:cNvPr id="109" name="Picture 20" descr="Horst1989 zoom"/>
            <p:cNvPicPr/>
            <p:nvPr/>
          </p:nvPicPr>
          <p:blipFill>
            <a:blip r:embed="rId1"/>
            <a:stretch/>
          </p:blipFill>
          <p:spPr>
            <a:xfrm>
              <a:off x="1229760" y="2164680"/>
              <a:ext cx="3875040" cy="379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42"/>
            <p:cNvGrpSpPr/>
            <p:nvPr/>
          </p:nvGrpSpPr>
          <p:grpSpPr>
            <a:xfrm>
              <a:off x="1060200" y="1987560"/>
              <a:ext cx="356040" cy="351360"/>
              <a:chOff x="1060200" y="1987560"/>
              <a:chExt cx="356040" cy="351360"/>
            </a:xfrm>
          </p:grpSpPr>
          <p:sp>
            <p:nvSpPr>
              <p:cNvPr id="111" name="Oval 45"/>
              <p:cNvSpPr/>
              <p:nvPr/>
            </p:nvSpPr>
            <p:spPr>
              <a:xfrm>
                <a:off x="1060200" y="198792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AutoShape 44"/>
              <p:cNvCxnSpPr/>
              <p:nvPr/>
            </p:nvCxnSpPr>
            <p:spPr>
              <a:xfrm>
                <a:off x="1233720" y="198756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AutoShape 43"/>
              <p:cNvCxnSpPr/>
              <p:nvPr/>
            </p:nvCxnSpPr>
            <p:spPr>
              <a:xfrm>
                <a:off x="1060200" y="215928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4" name="Group 38"/>
            <p:cNvGrpSpPr/>
            <p:nvPr/>
          </p:nvGrpSpPr>
          <p:grpSpPr>
            <a:xfrm>
              <a:off x="1042560" y="5783400"/>
              <a:ext cx="356040" cy="351360"/>
              <a:chOff x="1042560" y="5783400"/>
              <a:chExt cx="356040" cy="351360"/>
            </a:xfrm>
          </p:grpSpPr>
          <p:sp>
            <p:nvSpPr>
              <p:cNvPr id="115" name="Oval 41"/>
              <p:cNvSpPr/>
              <p:nvPr/>
            </p:nvSpPr>
            <p:spPr>
              <a:xfrm>
                <a:off x="1042560" y="578376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" name="AutoShape 40"/>
              <p:cNvCxnSpPr/>
              <p:nvPr/>
            </p:nvCxnSpPr>
            <p:spPr>
              <a:xfrm>
                <a:off x="1216080" y="578340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17" name="AutoShape 39"/>
              <p:cNvCxnSpPr/>
              <p:nvPr/>
            </p:nvCxnSpPr>
            <p:spPr>
              <a:xfrm>
                <a:off x="1042560" y="595512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8" name="Group 34"/>
            <p:cNvGrpSpPr/>
            <p:nvPr/>
          </p:nvGrpSpPr>
          <p:grpSpPr>
            <a:xfrm>
              <a:off x="4928760" y="1987560"/>
              <a:ext cx="356040" cy="351360"/>
              <a:chOff x="4928760" y="1987560"/>
              <a:chExt cx="356040" cy="351360"/>
            </a:xfrm>
          </p:grpSpPr>
          <p:sp>
            <p:nvSpPr>
              <p:cNvPr id="119" name="Oval 37"/>
              <p:cNvSpPr/>
              <p:nvPr/>
            </p:nvSpPr>
            <p:spPr>
              <a:xfrm>
                <a:off x="4928760" y="198792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0" name="AutoShape 36"/>
              <p:cNvCxnSpPr/>
              <p:nvPr/>
            </p:nvCxnSpPr>
            <p:spPr>
              <a:xfrm>
                <a:off x="5102280" y="198756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21" name="AutoShape 35"/>
              <p:cNvCxnSpPr/>
              <p:nvPr/>
            </p:nvCxnSpPr>
            <p:spPr>
              <a:xfrm>
                <a:off x="4928760" y="215928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2" name="Group 29"/>
            <p:cNvGrpSpPr/>
            <p:nvPr/>
          </p:nvGrpSpPr>
          <p:grpSpPr>
            <a:xfrm>
              <a:off x="4915080" y="5783400"/>
              <a:ext cx="356040" cy="351360"/>
              <a:chOff x="4915080" y="5783400"/>
              <a:chExt cx="356040" cy="351360"/>
            </a:xfrm>
          </p:grpSpPr>
          <p:sp>
            <p:nvSpPr>
              <p:cNvPr id="123" name="Oval 32"/>
              <p:cNvSpPr/>
              <p:nvPr/>
            </p:nvSpPr>
            <p:spPr>
              <a:xfrm>
                <a:off x="4915080" y="578376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4" name="AutoShape 31"/>
              <p:cNvCxnSpPr/>
              <p:nvPr/>
            </p:nvCxnSpPr>
            <p:spPr>
              <a:xfrm>
                <a:off x="5088600" y="578340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AutoShape 30"/>
              <p:cNvCxnSpPr/>
              <p:nvPr/>
            </p:nvCxnSpPr>
            <p:spPr>
              <a:xfrm>
                <a:off x="4915080" y="595512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6" name="Rectangle 49"/>
            <p:cNvSpPr/>
            <p:nvPr/>
          </p:nvSpPr>
          <p:spPr>
            <a:xfrm>
              <a:off x="665640" y="1774800"/>
              <a:ext cx="4820040" cy="4609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1224360" y="130968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"/>
            <p:cNvSpPr/>
            <p:nvPr/>
          </p:nvSpPr>
          <p:spPr>
            <a:xfrm>
              <a:off x="3737880" y="130968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 rot="2133600">
              <a:off x="5169960" y="601704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3"/>
            <p:cNvSpPr/>
            <p:nvPr/>
          </p:nvSpPr>
          <p:spPr>
            <a:xfrm rot="19353600">
              <a:off x="41400" y="601704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59"/>
          <p:cNvSpPr/>
          <p:nvPr/>
        </p:nvSpPr>
        <p:spPr>
          <a:xfrm>
            <a:off x="5653080" y="4504680"/>
            <a:ext cx="288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e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xing photo and transparency to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2: Preliminary legend 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611280" y="538056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e 3: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Example of an interpretation le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7" descr=""/>
          <p:cNvPicPr/>
          <p:nvPr/>
        </p:nvPicPr>
        <p:blipFill>
          <a:blip r:embed="rId1"/>
          <a:stretch/>
        </p:blipFill>
        <p:spPr>
          <a:xfrm>
            <a:off x="658800" y="1684440"/>
            <a:ext cx="78487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able 1. Interpretation legen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85840" y="2214720"/>
          <a:ext cx="8572320" cy="3489120"/>
        </p:xfrm>
        <a:graphic>
          <a:graphicData uri="http://schemas.openxmlformats.org/drawingml/2006/table">
            <a:tbl>
              <a:tblPr/>
              <a:tblGrid>
                <a:gridCol w="671400"/>
                <a:gridCol w="1090800"/>
                <a:gridCol w="1090440"/>
                <a:gridCol w="1090800"/>
                <a:gridCol w="1090440"/>
                <a:gridCol w="1090440"/>
                <a:gridCol w="1090800"/>
                <a:gridCol w="13572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/h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/ assoc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9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3: Interpretation 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124000" y="2494080"/>
            <a:ext cx="3240000" cy="2736360"/>
            <a:chOff x="2124000" y="2494080"/>
            <a:chExt cx="3240000" cy="2736360"/>
          </a:xfrm>
        </p:grpSpPr>
        <p:sp>
          <p:nvSpPr>
            <p:cNvPr id="139" name="Oval 5"/>
            <p:cNvSpPr/>
            <p:nvPr/>
          </p:nvSpPr>
          <p:spPr>
            <a:xfrm>
              <a:off x="3008880" y="249408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"/>
            <p:cNvSpPr/>
            <p:nvPr/>
          </p:nvSpPr>
          <p:spPr>
            <a:xfrm>
              <a:off x="2124000" y="428400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4381200" y="407052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3567960" y="274140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>
              <a:off x="2140920" y="4571280"/>
              <a:ext cx="35280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4814280" y="412776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1"/>
          <p:cNvSpPr/>
          <p:nvPr/>
        </p:nvSpPr>
        <p:spPr>
          <a:xfrm>
            <a:off x="5292720" y="3908880"/>
            <a:ext cx="33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igure 4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Example of land-unit mapping, mixing image characteristics and land-use characteristics</a:t>
            </a:r>
            <a:r>
              <a:rPr b="0" lang="de-DE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WesselerClassEx"/>
          <p:cNvPicPr/>
          <p:nvPr/>
        </p:nvPicPr>
        <p:blipFill>
          <a:blip r:embed="rId1"/>
          <a:stretch/>
        </p:blipFill>
        <p:spPr>
          <a:xfrm>
            <a:off x="755640" y="1341360"/>
            <a:ext cx="4095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3: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asic cartographic rules on polygon map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ll polygons should be closed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ach polygon with the same characteristics should have the same symbol (label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 smallest polygon is generally 5 x 5 mm, or 2 x 10 mm for elongated unit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5:28:43Z</dcterms:created>
  <dc:creator>Jeroen Verplanke</dc:creator>
  <dc:description/>
  <cp:keywords>pgis training kit</cp:keywords>
  <dc:language>en-US</dc:language>
  <cp:lastModifiedBy>Jeroen Verplanke</cp:lastModifiedBy>
  <dcterms:modified xsi:type="dcterms:W3CDTF">2010-06-21T09:54:53Z</dcterms:modified>
  <cp:revision>97</cp:revision>
  <dc:subject/>
  <dc:title>Presentation No. 2 - Exercise No. 1 - Land Cover Mapping with Aerial Photograph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